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92C-D9A1-42D2-88CA-D49CFC6A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VI of the EIIP document series address completeness che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gaps may be the result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lutants unaccounted for due to lack of credible 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cilities that are missing or unaccounted for due to incomplete source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urce categories that have not been considered due to lack of credible EF or activit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eck existing inventories and permit files by source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093680" y="47304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3200040"/>
            <a:ext cx="60199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Same facility in inventory under different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603440" y="457200"/>
            <a:ext cx="3443400" cy="25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3E5-A68D-423E-A6C6-867DB9FD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2DF-946F-4222-8AAE-DC2B8F5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19C-0CB0-4790-B060-3706A32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40E-FAF7-4B49-BB0B-6F7D9122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96A-AD72-4D32-9880-D4FED70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0C6-F07A-48B7-A15D-0973CDF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637-7EAC-4199-81BF-142A87A7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546-AA05-46B8-A9EB-E7E7E7D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B8A-F87A-4DD1-A1D2-E3C9AFBB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97E-6A69-49E9-9C70-65B8C93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63E-4A5B-484B-AA64-A9A3D84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65D-3C1E-4A97-B1A3-536BE4A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0A32-8298-4C06-B73B-792C1F37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A/QC Exampl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02 Point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Parameters:  height, diameter, temperature, velocity, and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tack parameter default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Release Point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 (stack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, Horizontal, Goose Ne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 with Rain Cap, Downward Facing 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invalid emission release point types based on source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o Step 2 if Emission Release Point Type is fugitive and to Step 3 if Emission Release Point Type is non-fug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Stack Height is between 0.1 and 100 ft, replace remaining parameters with defaults.  Proceed to Step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ight is invalid, replace all parameters with defaults.  Proceed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ugitive Stack Parameter Defa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:  72 ˚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0.003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 0.0003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:             0 ft3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 parameters to the following min/max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20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*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– 1800 ˚F, Verify T is greater than 250 ˚F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inera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5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00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out of range value is acceptable for sourc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parameters are acceptable, proceed to Step D. If any parameter is missing or out of range, proceed to Step 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98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internal consistency betwee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Height &lt; Stack Diame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Height &gt; Stack Diameter, replace all 5 parameters.  Proceed to Step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Diameter&lt; Stack Height, evaluate Flow Rate Consis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Flow Rate and Calculated Flow Rate are within 10% of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rate =((Pi)*(Diameter/2))2 *Velo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ternal consistency is met, process is complete.  If internal consistency is not met, proceed to Step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 or inconsistent parameters using following hierarchy.  Proceed to 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d flow rate or velo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default unless SCC is 39999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T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: 72 ˚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meter:       1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locity:         15 ft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:             12 ft3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stack parameter default flags to indicate how stack parameters have been defaulted in the inventory.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Original value (not a 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SCC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= SIC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 National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Calcula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MACT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Identify and Fi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 Data Ga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dditional searches of databases to identify appropriate surrog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xisting inventories to spatially allocate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te emissions from other geographic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emissions data from past inventories within the same geographic area.  Includes both future growth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: Expected growth in an geographic region by industr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trategy:  Expected impact of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odified or ad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s for Pollut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augment for individual compounds when a compound group is repor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are often not speciated in original data submitted to agency.  Examples include:  PM2.5, PM coarse and fine, metals such as mercury and chro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methodology exists for some pollutant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ury speciatio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ium speciation factors for hexavalent and trivalent chro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NEI Data Augmentation Point Sourc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TE for PM coarse and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280" y="1657440"/>
            <a:ext cx="8237520" cy="20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duplicat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facilities having different IDs, but identical latitude and long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names – missing coordinate data, address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names – change in ownership/name, use of subsidiary names, use of abbreviated nam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top emitters of each pollu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facilities with same reported emissions of each pollu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3809880"/>
          <a:ext cx="8178840" cy="1790640"/>
        </p:xfrm>
        <a:graphic>
          <a:graphicData uri="http://schemas.openxmlformats.org/drawingml/2006/table">
            <a:tbl>
              <a:tblPr/>
              <a:tblGrid>
                <a:gridCol w="762120"/>
                <a:gridCol w="1282680"/>
                <a:gridCol w="1022400"/>
                <a:gridCol w="1047600"/>
                <a:gridCol w="997200"/>
                <a:gridCol w="1022400"/>
                <a:gridCol w="1022040"/>
                <a:gridCol w="10224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E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1200"/>
            <a:ext cx="7935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QA/QC:  Example 2002 NEI for H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00520" y="2457360"/>
            <a:ext cx="0" cy="4003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6800" y="2874960"/>
            <a:ext cx="13572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itial Format &amp; Data Integrity QC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60" y="2714760"/>
            <a:ext cx="14349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le readabl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alid c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2480" y="4937040"/>
            <a:ext cx="0" cy="533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9400" y="4416480"/>
            <a:ext cx="1450800" cy="520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nd/Merge data re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2640" y="4414680"/>
            <a:ext cx="15192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base cove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facilities, source categori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lutants, geographic 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6280" y="4254480"/>
            <a:ext cx="133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Sourc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and sec. 129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GU C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46400" y="5457960"/>
            <a:ext cx="1298520" cy="439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ment data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560" y="557856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 needed for emission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2920" y="5586480"/>
            <a:ext cx="123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ck para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fiel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5884920"/>
            <a:ext cx="0" cy="44748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6400" y="6332400"/>
            <a:ext cx="231300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2640" y="1991880"/>
            <a:ext cx="0" cy="434340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00560" y="1989000"/>
            <a:ext cx="158112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7720" y="3059280"/>
            <a:ext cx="1905120" cy="3427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 NEI to public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054240"/>
            <a:ext cx="703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/L/Ts, Industr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,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3480" y="2003400"/>
            <a:ext cx="0" cy="32220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74080" y="338292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5920" y="4156200"/>
            <a:ext cx="0" cy="3981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8080" y="4545000"/>
            <a:ext cx="2396880" cy="3841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evaluates &amp; incorporates revisions and new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5322960"/>
            <a:ext cx="1241640" cy="28080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2680" y="1789200"/>
            <a:ext cx="1406520" cy="67932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Receives S/L/T data in NIF  via CD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58040" y="6035760"/>
            <a:ext cx="1295280" cy="30168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N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2880" y="2276640"/>
            <a:ext cx="1203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ssion Outl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pl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Code ass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43840" y="560880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72280" y="3757680"/>
            <a:ext cx="1712880" cy="39204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rnal reviewers submit data/revisions to EP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7560" y="2363760"/>
            <a:ext cx="1241640" cy="2811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56520" y="2662200"/>
            <a:ext cx="0" cy="39708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8760" y="3622680"/>
            <a:ext cx="13590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C &amp;  Augmentation of Locational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22480" y="322596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2480" y="398304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56640" cy="157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Duplicate Facilities and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ollutant emissions at potential duplicate fac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ll pollutants are duplicated, delete one fac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ly some pollutants are duplicated, delete only emission records for duplicated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3581280"/>
          <a:ext cx="8128080" cy="1977840"/>
        </p:xfrm>
        <a:graphic>
          <a:graphicData uri="http://schemas.openxmlformats.org/drawingml/2006/table">
            <a:tbl>
              <a:tblPr/>
              <a:tblGrid>
                <a:gridCol w="758880"/>
                <a:gridCol w="1272960"/>
                <a:gridCol w="1016280"/>
                <a:gridCol w="1074600"/>
                <a:gridCol w="957240"/>
                <a:gridCol w="1015920"/>
                <a:gridCol w="728640"/>
                <a:gridCol w="13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C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Nick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Lead.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P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Mercury,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720" y="197172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utliers and Missin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hanges between 96 and 99 emissions by facility, category, county,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ariation (high std deviation) within 99 draft data for facilities within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facil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op emitters for each pollutant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each facility based on emissions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op emitters for each pollutant/source category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outliers by contacting organizations who provided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orrections to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missing facilities and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896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utlier Q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 Na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Facilit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6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Site %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E-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E+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tt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merican Waste Centr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fill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 Facility 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MS1091185 (Stat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als of the 2002 N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ndardized format for data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ly use bes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A/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rrors in geographic coord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tack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consistency in nonpoint sources across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quality of emission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umber of nonpoint source categories by increasing number of categories inventoried as poi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criteria and HAP emissions where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N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QC/Q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duplicate facility, site, and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erroneous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ordin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forma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QC conducted by 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QC - identify potential errors with form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Locational Data - verify facility lo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QC - identify emiss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Forma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 Activiti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data integrity (relational data base with required key fiel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roperties of data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ype (text, numeric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 – maximum length of each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 fields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code values with acceptable values in cod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and 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ve Actions resulting from QC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uplicate records and records with null and zero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with agencies and tribes to correct records by creating needed records or removing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invalid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new codes not included in code table, e.g., additional HAPs that are not included in Pollutant Cod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agencies and tribes to verify that reported value is 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How Do I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ugment Location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coordinates to correct units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all emission release points are within 3 km of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coordinates are in correct cou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bad/missing coordin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coordinates within a facil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cks where distance between points should not be &gt; 3km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verage Site Latitude and Longitude calculated from valid points to replace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740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bad/missing coordinates outside of county boundary using the hierarchy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cility Spec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Site Latitude and Longitude calculated from valid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eocoding 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QA and correct address and zip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use Geo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ct Match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 - match to single street blo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+2 Zip code 5 (47% of GEOCODER mat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3 - match to 3 digit zip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big - match to one of possible multiple street seg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from previous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pany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aps from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ite Release Point at County Centroid if coordinates cannot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514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238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ssign location coordinate default flags.  Example from 2002 N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7240" y="1868400"/>
          <a:ext cx="7459560" cy="3944520"/>
        </p:xfrm>
        <a:graphic>
          <a:graphicData uri="http://schemas.openxmlformats.org/drawingml/2006/table">
            <a:tbl>
              <a:tblPr/>
              <a:tblGrid>
                <a:gridCol w="1204200"/>
                <a:gridCol w="625536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fault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within a unique intersection or within a single side of a single street blo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a single street block but the correct placement within block is unknow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code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, plus the first two digits of the 4-digit extens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multiple 3-digit zip codes based on postal service Sectional Center Facility (SCF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multiple street seg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y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y centro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Fac T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found in the NEI Historical Facility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-Av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accurate coordinates of other emission release points at the same 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8:18:58Z</dcterms:created>
  <dc:creator>apope</dc:creator>
  <dc:description/>
  <dc:language>en-US</dc:language>
  <cp:lastModifiedBy>Anne Adams Pope</cp:lastModifiedBy>
  <dcterms:modified xsi:type="dcterms:W3CDTF">2007-04-29T20:49:27Z</dcterms:modified>
  <cp:revision>4</cp:revision>
  <dc:subject/>
  <dc:title>QA/QC Example: 1999 NEI</dc:title>
</cp:coreProperties>
</file>